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D71-E42E-4EA9-BE3F-1BC624CB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E064-95A6-490F-9048-C76F1B5A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794-E749-48AE-8D19-6C3DC65B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1D55-EEC0-47B9-92FC-29B12FC0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C8F-4C3D-43CA-832B-53341126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206-06B1-4C26-9D6A-08B3025E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85D-6467-4D78-B459-9E61B784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256-0C5B-4E3B-90EE-A1B3B41C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7FE8-9FB8-4157-9A17-881E9CC9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ECE-3FB7-4A65-915A-AEDD410F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0A43-4180-4B42-9FB3-FBCF5710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F37D-3CA2-4A0E-BC11-ED005555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7B27-818A-494A-B66E-EEAD018AE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Grapevinesnail_01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animaldiversity.ummz.umich.edu/site/resources/Grzimek_insects/Blattodea/Blatta_orientalis.jpg/view.html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en-US" sz="88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8800" spc="-1" strike="noStrike">
                <a:solidFill>
                  <a:srgbClr val="00ff00"/>
                </a:solidFill>
                <a:latin typeface="Arial"/>
              </a:rPr>
              <a:t>e </a:t>
            </a:r>
            <a:r>
              <a:rPr b="1" lang="en-US" sz="8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88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1" lang="en-US" sz="8800" spc="-1" strike="noStrike">
                <a:solidFill>
                  <a:srgbClr val="00ffff"/>
                </a:solidFill>
                <a:latin typeface="Arial"/>
              </a:rPr>
              <a:t>C</a:t>
            </a: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8800" spc="-1" strike="noStrike">
                <a:solidFill>
                  <a:srgbClr val="9900cc"/>
                </a:solidFill>
                <a:latin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1" lang="en-US" sz="8800" spc="-1" strike="noStrike">
                <a:solidFill>
                  <a:srgbClr val="ffff66"/>
                </a:solidFill>
                <a:latin typeface="Arial"/>
              </a:rPr>
              <a:t>f  </a:t>
            </a:r>
            <a:r>
              <a:rPr b="1" lang="en-US" sz="8800" spc="-1" strike="noStrike">
                <a:solidFill>
                  <a:srgbClr val="00ff00"/>
                </a:solidFill>
                <a:latin typeface="Arial"/>
              </a:rPr>
              <a:t>I</a:t>
            </a:r>
            <a:r>
              <a:rPr b="1" lang="en-US" sz="88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1" lang="en-US" sz="88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en-US" sz="8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8800" spc="-1" strike="noStrike">
                <a:solidFill>
                  <a:srgbClr val="9900cc"/>
                </a:solidFill>
                <a:latin typeface="Arial"/>
              </a:rPr>
              <a:t>c</a:t>
            </a:r>
            <a:r>
              <a:rPr b="1" lang="en-US" sz="88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en-US" sz="8800" spc="-1" strike="noStrike">
                <a:solidFill>
                  <a:srgbClr val="ffff66"/>
                </a:solidFill>
                <a:latin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: Heather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Ii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ac the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th only likes to come out at n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likes to sleep when it is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895480" y="3200400"/>
            <a:ext cx="3272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Jj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une</a:t>
            </a: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u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et the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g likes to eat fruit that’s swee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ummy, what a tre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71800" y="320040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Kk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tydi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le th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ydid likes to s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may hear him in summer or in spr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971800" y="320040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Ll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dybu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ry the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ybug beats his wings 85 times a second when he fli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doesn’t even matter what his siz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71800" y="320040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 u="sng">
                <a:solidFill>
                  <a:srgbClr val="00ffff"/>
                </a:solidFill>
                <a:uFillTx/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Arial"/>
              </a:rPr>
              <a:t>Mm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osqui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y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squito likes to feed on some people more than othe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better get some bug spray from your mothe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8120" y="320040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 u="sng">
                <a:solidFill>
                  <a:srgbClr val="9900cc"/>
                </a:solidFill>
                <a:uFillTx/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cc"/>
                </a:solidFill>
                <a:latin typeface="Arial"/>
              </a:rPr>
              <a:t>Nn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oseeu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han the noseeum gets his name from being so tin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he bites you, you may become whin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nosee1.gif (6853 bytes)"/>
          <p:cNvPicPr/>
          <p:nvPr/>
        </p:nvPicPr>
        <p:blipFill>
          <a:blip r:embed="rId1"/>
          <a:stretch/>
        </p:blipFill>
        <p:spPr>
          <a:xfrm>
            <a:off x="3048120" y="3200400"/>
            <a:ext cx="3271680" cy="1828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 u="sng">
                <a:solidFill>
                  <a:srgbClr val="ff00ff"/>
                </a:solidFill>
                <a:uFillTx/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Oo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ange Bee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elia the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beetle can give you a blist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her away from you and your sis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66"/>
                </a:solidFill>
                <a:latin typeface="Arial"/>
              </a:rPr>
              <a:t>Pp</a:t>
            </a:r>
            <a:r>
              <a:rPr b="0" lang="en-US" sz="58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58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5800" spc="-1" strike="noStrike">
                <a:solidFill>
                  <a:srgbClr val="ffffff"/>
                </a:solidFill>
                <a:latin typeface="Arial"/>
              </a:rPr>
              <a:t>raying Mantis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l 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ying mantis has front legs equipped with sharp spik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ikes, Yikes, Yik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124080" y="3276720"/>
            <a:ext cx="3272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Qq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s for </a:t>
            </a: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ueen B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intana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een bee is the mother of all the bees in the hi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must be important to keep her al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Rr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s for </a:t>
            </a: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oa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yan the 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ach can hold his breath for more than a half an hour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ow, I bet that takes a lot of pow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Aa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 can lift 20 times his own body we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w, that’s really gre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95480" y="3200400"/>
            <a:ext cx="3276720" cy="1828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ff"/>
                </a:solidFill>
                <a:uFillTx/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S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a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y the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il is very slo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Sally, go Sally, go, go, g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Roman snail (Helix pomatia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342900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 u="sng">
                <a:solidFill>
                  <a:srgbClr val="00ffff"/>
                </a:solidFill>
                <a:uFillTx/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Arial"/>
              </a:rPr>
              <a:t>Tt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rmi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ker the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mite likes to eat woo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bet that doesn’t taste very go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71800" y="320040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 u="sng">
                <a:solidFill>
                  <a:srgbClr val="9900cc"/>
                </a:solidFill>
                <a:uFillTx/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9900cc"/>
                </a:solidFill>
                <a:latin typeface="Arial"/>
              </a:rPr>
              <a:t>Uu</a:t>
            </a:r>
            <a:r>
              <a:rPr b="0" lang="en-US" sz="58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58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5800" spc="-1" strike="noStrike">
                <a:solidFill>
                  <a:srgbClr val="ffffff"/>
                </a:solidFill>
                <a:latin typeface="Arial"/>
              </a:rPr>
              <a:t>nicorn Beetl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ula the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corn beetle has horns on her he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bet you wouldn’t want to find her crawling in your b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00400" y="320040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 u="sng">
                <a:solidFill>
                  <a:srgbClr val="ff00ff"/>
                </a:solidFill>
                <a:uFillTx/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00ff"/>
                </a:solidFill>
                <a:latin typeface="Arial"/>
              </a:rPr>
              <a:t>Vv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56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iceroy Butterfl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tor the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eroy butterfly likes to feed on flowe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also likes the water that comes from April show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Ww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ter</a:t>
            </a: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u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a the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er bug likes to live in areas that are dam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may even find her at your cam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320040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Xx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E</a:t>
            </a: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oskelet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skeleton is what protects the insects body from a strang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come in all shapes and sizes and help keep them out of dang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095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Yy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llow Jack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anda th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low jacket is known for being very mea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don’t watch out she may s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71800" y="312408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Zz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Z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bra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utterf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k the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bra butterfly does not like the co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its not warm he must leave we are tol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124080" y="3200400"/>
            <a:ext cx="3272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en-US" sz="96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9600" spc="-1" strike="noStrike">
                <a:solidFill>
                  <a:srgbClr val="00ff00"/>
                </a:solidFill>
                <a:latin typeface="Arial"/>
              </a:rPr>
              <a:t>E </a:t>
            </a: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1" lang="en-US" sz="96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Bb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s for </a:t>
            </a: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utterf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ky the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terfly can taste with her fee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e, that’s really ne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19520" y="3200400"/>
            <a:ext cx="32716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Cc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s for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ick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ristopher the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cke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chirp 60 times a minu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3200400"/>
            <a:ext cx="32720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Dd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agonf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la the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gonfly eats mosquito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w that’s really neat o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8120" y="3200400"/>
            <a:ext cx="25416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Ee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rthwor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n the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hworm can replace a missing body par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e, he must really be smar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 u="sng">
                <a:solidFill>
                  <a:srgbClr val="00ffff"/>
                </a:solidFill>
                <a:uFillTx/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Arial"/>
              </a:rPr>
              <a:t>Ff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s fo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ref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cis the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efly can produce l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w, what a sight that must be at n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95480" y="3200400"/>
            <a:ext cx="3272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 u="sng">
                <a:solidFill>
                  <a:srgbClr val="9900cc"/>
                </a:solidFill>
                <a:uFillTx/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cc"/>
                </a:solidFill>
                <a:latin typeface="Arial"/>
              </a:rPr>
              <a:t>Gg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asshopp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y the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sshopper can travel up to 29 feet in one ho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must be like watching popcorn po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95480" y="3276720"/>
            <a:ext cx="3272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 u="sng">
                <a:solidFill>
                  <a:srgbClr val="ff00ff"/>
                </a:solidFill>
                <a:uFillTx/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H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s fo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orsef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ah the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sefly likes to bi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w, that’s really a fr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43200" y="320040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7:45:10Z</dcterms:created>
  <dc:creator>Heather Ann Wilson</dc:creator>
  <dc:description/>
  <dc:language>en-US</dc:language>
  <cp:lastModifiedBy>Heather Ann Wilson</cp:lastModifiedBy>
  <dcterms:modified xsi:type="dcterms:W3CDTF">2008-03-25T16:33:13Z</dcterms:modified>
  <cp:revision>11</cp:revision>
  <dc:subject/>
  <dc:title>Slide 1</dc:title>
</cp:coreProperties>
</file>